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09CE-A78C-41DB-9877-039F9FD1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D41-4E0C-4542-8E19-4CA5FAAC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64C-20C5-4203-A252-981282B7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840-D6E4-41F7-8A97-453D0F13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CD0F-B589-4B98-A6F6-6623405B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A4F-69FB-4A44-8685-4DC9C739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A98-EE8E-4D97-AD42-3B7426CB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CAD-321C-4C5B-B398-D001A5B3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3935-DAFE-4772-A7B8-F8BF6725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A68-09F9-410F-9F82-E12051F1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122-3BF6-4860-A54E-B251DCD3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484-49C0-499B-AF3A-07DEC053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DE02-C599-4882-A6BD-BB7C36043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incentraleurope.radio.cz/pictures/usa/socha_svobody_vlajka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ravel4america.com/wp-content/uploads/2011/05/Panama_City_Beach_Florida_USA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towleroad.typepad.com/.a/6a00d8341c730253ef0134854be99c970c-800wi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se bautis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s lovet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5/29/1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erican dr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ud to be domini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886200" cy="4343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2057400"/>
            <a:ext cx="3657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4114800" cy="4095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n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809880" cy="4267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3962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9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962160" cy="5105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4362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ican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3124440" cy="4381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172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3733920" cy="438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8288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708200"/>
            <a:ext cx="3733560" cy="446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3981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581640" cy="4387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1676520"/>
            <a:ext cx="3886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733560" cy="4647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343400" y="1523880"/>
            <a:ext cx="4105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lapi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809880" cy="4343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343400" y="19051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962520" cy="4572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8480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886200" cy="4267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343400" y="1676520"/>
            <a:ext cx="4114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7:51:26Z</dcterms:created>
  <dc:creator>Administrator</dc:creator>
  <dc:description/>
  <dc:language>en-US</dc:language>
  <cp:lastModifiedBy>int_lab_201</cp:lastModifiedBy>
  <dcterms:modified xsi:type="dcterms:W3CDTF">2011-05-25T14:16:50Z</dcterms:modified>
  <cp:revision>5</cp:revision>
  <dc:subject/>
  <dc:title>Jose bautista ms lovett 05/29/11</dc:title>
</cp:coreProperties>
</file>